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588-B93A-4E68-B3BA-47C37002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E3B-983F-41C6-BFCB-1D1BD288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EF9-627A-421D-9B9A-3FC5827F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1E4-2C3C-4286-B27B-1E0F25A4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4627-DE63-4459-AE45-ABCC3129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8A35-C0B8-43D9-9D18-0DBABDF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83E7-ECB7-475A-A893-118C5CB9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35E4-DB67-464D-90B6-FD9E0B05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8AC0-D824-45E3-834F-21044290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15FD-EC99-4E78-A872-28372E80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E793-63CB-4CFF-89E1-5D97D44C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F75-42CF-4E8D-9CA3-6D91A341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2C16-39DF-4E48-A895-1678D853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D249-8B20-44E8-ABAF-1914B66D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BFBE-1B91-448D-9E93-82863331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FAE9-9D7D-424D-82B6-35430908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39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7120" y="160020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39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7120" y="3964320"/>
            <a:ext cx="235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FA8F-9B80-4C91-B9C3-181FB1C2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0D2-82FD-4ABD-8D5E-064E33A8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F41-D4A2-4362-83E3-77B1FF0D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259-0F7A-4976-ACC1-F58B02E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DA7-ECD1-47DC-81C7-8D8AFBA5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0124-971A-4FA7-A620-67E66010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9400" y="396432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39C-BED4-459E-A6C9-CD89A709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9400" y="1600200"/>
            <a:ext cx="356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64320"/>
            <a:ext cx="73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D32-B8B2-40E1-9D64-462E544D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8D9C-6445-4AC6-BDF8-FBF6CCA0F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9709-7C75-4022-A923-7D38EB266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ru.wikipedia.org/wiki/1883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6920" y="2492280"/>
            <a:ext cx="547236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дмет, основные методы и разделы почвовед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чвообразовательный   процесс</a:t>
            </a:r>
            <a:r>
              <a:rPr b="0" lang="ru-RU" sz="3200" spc="-1" strike="noStrike">
                <a:solidFill>
                  <a:srgbClr val="45855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940360" y="5734080"/>
            <a:ext cx="2317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кция №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4" descr="p004"/>
          <p:cNvPicPr/>
          <p:nvPr/>
        </p:nvPicPr>
        <p:blipFill>
          <a:blip r:embed="rId1"/>
          <a:stretch/>
        </p:blipFill>
        <p:spPr>
          <a:xfrm>
            <a:off x="7451640" y="2492280"/>
            <a:ext cx="14302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41832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713800" cy="668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естественно-историческое, природное образование, рыхлое и динамичное, сформировавшееся на земной поверхности при взаимодействии геологических пород и живых организмов в определенных климатических условиях и рельефа со временем и обладающее плодороди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акторы почвообраз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лима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льеф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чвообразующие пород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вые организм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11280" y="260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 о ч в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2006_lov_s_flora4"/>
          <p:cNvPicPr/>
          <p:nvPr/>
        </p:nvPicPr>
        <p:blipFill>
          <a:blip r:embed="rId1"/>
          <a:stretch/>
        </p:blipFill>
        <p:spPr>
          <a:xfrm>
            <a:off x="4500720" y="4149720"/>
            <a:ext cx="1981080" cy="151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3115a"/>
          <p:cNvPicPr/>
          <p:nvPr/>
        </p:nvPicPr>
        <p:blipFill>
          <a:blip r:embed="rId2"/>
          <a:stretch/>
        </p:blipFill>
        <p:spPr>
          <a:xfrm>
            <a:off x="6156360" y="5013360"/>
            <a:ext cx="24861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биосфере Земли почва выполняет ряд функций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ивает условия существования жизни на земной поверхности за счет аккумуляции биофильных элементов, самовосстановления и самоочищения среды обитания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улирует развитие и взаимосвязь геологического и биологического круговоротов веществ и потоков энерг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еспечивает накопление органического вещества, главным образом в виде почвенного гумуса, являющегося хранителем живой энерг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2006_lov_s_flora2"/>
          <p:cNvPicPr/>
          <p:nvPr/>
        </p:nvPicPr>
        <p:blipFill>
          <a:blip r:embed="rId1"/>
          <a:stretch/>
        </p:blipFill>
        <p:spPr>
          <a:xfrm>
            <a:off x="900000" y="5734080"/>
            <a:ext cx="2232000" cy="93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2006_lov_s_flora1"/>
          <p:cNvPicPr/>
          <p:nvPr/>
        </p:nvPicPr>
        <p:blipFill>
          <a:blip r:embed="rId2"/>
          <a:stretch/>
        </p:blipFill>
        <p:spPr>
          <a:xfrm>
            <a:off x="6732720" y="5661000"/>
            <a:ext cx="1873080" cy="100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3115c"/>
          <p:cNvPicPr/>
          <p:nvPr/>
        </p:nvPicPr>
        <p:blipFill>
          <a:blip r:embed="rId3"/>
          <a:stretch/>
        </p:blipFill>
        <p:spPr>
          <a:xfrm>
            <a:off x="3708360" y="5661000"/>
            <a:ext cx="248616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чва представляет собой сложную саморегулирующуюся поликомпонентную многофазную систему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АЗЫ        ПОЧВ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вердая фаз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Жидкая фа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азовая фа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Живая фаз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5" descr="p004"/>
          <p:cNvPicPr/>
          <p:nvPr/>
        </p:nvPicPr>
        <p:blipFill>
          <a:blip r:embed="rId1"/>
          <a:stretch/>
        </p:blipFill>
        <p:spPr>
          <a:xfrm>
            <a:off x="4427640" y="2205000"/>
            <a:ext cx="1712880" cy="3168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p007"/>
          <p:cNvPicPr/>
          <p:nvPr/>
        </p:nvPicPr>
        <p:blipFill>
          <a:blip r:embed="rId2"/>
          <a:stretch/>
        </p:blipFill>
        <p:spPr>
          <a:xfrm>
            <a:off x="6516720" y="3141720"/>
            <a:ext cx="15843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чвообразовательный процесс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Геологическим круговоротом веществ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зываются геологические процессы превращения и перемещения массы горной породы, совершающиеся на протяжении геологических эпох. В геологическом круговороте образуется рыхлая кора выветривания в виде различных по генезису осадочных пород. В коре выветривания создаются предпосылки для поселения растительности и развития почвообразования, так как она обладает пористостью, водо- и воздухопроницаемостью и содержит некоторое количество зольных элементов питания раст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алый биологический круговоро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веществ обусловлен жизнедеятельностью живых организмов и, прежде всего зеленых растений. Характерными чертами его являютс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влечение из материнской горной породы элементов пита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нтез биомассы и включение элементов питания в состав сложных, нерастворимых в воде органических соединен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озврат в формирующуюся почву этих соединений с ежегодным опадом отмирающей биомассы в виде наземного опада и корн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ее важные слагаемые почвообразовательного процесс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превращение (трансформация) минералов горной породы, из которой образуется почва  (а в дальнейшем и самой почвы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накопление в ней органических остатков и их постепенная трансформаци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взаимодействие минеральных и органических соединени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) накопление (аккумуляция) в верхней части почвы ряда биофильных элементов, и прежде всего элементов питания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) передвижение продуктов  почвообразования с током влаги по вертикальной толще формирующейся почв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p011"/>
          <p:cNvPicPr/>
          <p:nvPr/>
        </p:nvPicPr>
        <p:blipFill>
          <a:blip r:embed="rId1"/>
          <a:stretch/>
        </p:blipFill>
        <p:spPr>
          <a:xfrm>
            <a:off x="7236000" y="3284640"/>
            <a:ext cx="165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итератур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055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  Почвоведение. Под ред. И.С. Кауричева. – М.: Колос, 1982. - с.5-17; 37-4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  В.Д. Муха. Агропочвоведение. – М.: КолосС, 2003. – с.5-12; 29-3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учить предмет, основные методы и разделы почвоведения, познакомиться с общей схемой почвообразовательного  процесса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лек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мет, основные методы и разделы почвоведения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никновение и создание генетического почв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ятие о почв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ая схема почвообразовательного процес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чвоведение –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05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почвах, их образовании, строении, составе и свойствах; о закономерностях их географического распространения; о процессах взаимосвязи с внешней средой, определяющих формирование и развитие главнейшего свойства почв – плодородия; о путях рационального использования почв в сельском и народном хозяйстве и об изменении почвенного покрова в агрикультурных условиях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848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чвоведение является широкой естественно научной дисциплиной.</a:t>
            </a:r>
            <a:r>
              <a:rPr b="0" lang="ru-RU" sz="3200" spc="-1" strike="noStrike">
                <a:solidFill>
                  <a:srgbClr val="45855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79280" y="3429000"/>
            <a:ext cx="446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ундаменталь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изика, химия, 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547640" y="2492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жные на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 flipH="1">
            <a:off x="2626920" y="2997360"/>
            <a:ext cx="1368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3"/>
          <p:cNvSpPr/>
          <p:nvPr/>
        </p:nvSpPr>
        <p:spPr>
          <a:xfrm>
            <a:off x="4932360" y="2997360"/>
            <a:ext cx="151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788000" y="3562200"/>
            <a:ext cx="43560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ественные, сельскохозяйственные и экономические нау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логия, геология, агрохимия, земледелие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ажные разделы почвовед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е о формировании и развитии (генезисе)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е о почвенном покров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е о плодородии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ка поч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имия почв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иология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ография почв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грономическое, лесное, мелиоративное почвоведение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ассификация поч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етоды исследования в почвоведении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равнительно-географический ме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равнительно-аналитический ме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ационарный метод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етод моделирования почвенных процессов и режим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офильные мето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Изучение почвенного профил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Изучение почвенного профиля"/>
          <p:cNvPicPr/>
          <p:nvPr/>
        </p:nvPicPr>
        <p:blipFill>
          <a:blip r:embed="rId1"/>
          <a:stretch/>
        </p:blipFill>
        <p:spPr>
          <a:xfrm>
            <a:off x="395280" y="4076640"/>
            <a:ext cx="223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сновоположник почвоведения В.В.Докучаев (1846-1903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В. В. Докучаев"/>
          <p:cNvPicPr/>
          <p:nvPr/>
        </p:nvPicPr>
        <p:blipFill>
          <a:blip r:embed="rId1"/>
          <a:stretch/>
        </p:blipFill>
        <p:spPr>
          <a:xfrm>
            <a:off x="395280" y="1484280"/>
            <a:ext cx="2016000" cy="2736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http://www.soilmuseum.narod.ru/images/dokuch.jpg"/>
          <p:cNvPicPr/>
          <p:nvPr/>
        </p:nvPicPr>
        <p:blipFill>
          <a:blip r:embed="rId2"/>
          <a:stretch/>
        </p:blipFill>
        <p:spPr>
          <a:xfrm>
            <a:off x="3635280" y="2565360"/>
            <a:ext cx="1905120" cy="242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www.soilmuseum.narod.ru/images/dokuchaev.jpg"/>
          <p:cNvPicPr/>
          <p:nvPr/>
        </p:nvPicPr>
        <p:blipFill>
          <a:blip r:embed="rId3"/>
          <a:stretch/>
        </p:blipFill>
        <p:spPr>
          <a:xfrm>
            <a:off x="6659640" y="1268280"/>
            <a:ext cx="1904760" cy="2428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826920" y="52293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воей монографии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Русский чернозём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88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он впервые рассматривает почву как самостоятельное природное тело, формирующееся под воздействием 5 факторов: живых организмов, свойств породы, рельефа, климата и времени развития. 1883 год считается временем возникновения почвоведения как на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учный вклад Докучаева В.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первые предложил естественноисторический метод бонитировки почв, имеющий важное значение в современных приёмах качественной оценки земель и земельного кадастр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ал научную классификацию почв, основанную на генетическом принципе (1886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ниге "Наши степи прежде и теперь" (1892) изложил план борьбы с засухой, поразившей чернозёмную полосу России в 1891, который предусматривал комплекс мер воздействия на всю природу степной зоны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е о широтных (горизонтальных) и вертикальных "естественноисторических зонах" составило главное содержание русской научной школы в физической географии. Выделены семь мировых зон (бореальная, северная лесная, лесостепная, степная, сухих степей, аэральная зона пустынь, субтропическая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здал учение об эволюции почв, понимая при этом почвообразовательные процессы "как вечно изменяющиеся функции" природных фактор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ченые - почвовед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стычев П.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сновы агрономического почвоведени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бирцев Н.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 заведующий первой кафедры ген. Почвоведения, написал первый учебник по почвоведению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ссович П.С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сновоположник химических, физических свойств поч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дройц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Учение о поглотительной способности почв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ильямс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.Р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(основы биологического направления в почвоведен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4:56:07Z</dcterms:created>
  <dc:creator>Админ</dc:creator>
  <dc:description/>
  <dc:language>en-US</dc:language>
  <cp:lastModifiedBy>Женис Бахытбекович</cp:lastModifiedBy>
  <dcterms:modified xsi:type="dcterms:W3CDTF">2013-12-04T11:22:09Z</dcterms:modified>
  <cp:revision>5</cp:revision>
  <dc:subject/>
  <dc:title>Предмет, основные методы и разделы почвоведения.  Общая схема       почвообразовательного    процесса</dc:title>
</cp:coreProperties>
</file>